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6A1-EA5C-4046-AD03-A1B1D3A4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356-F955-4DD9-92EE-3A98B1A9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BF6-6799-4275-9CC7-35C2ACCB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D8D-48E7-4BDA-959F-7088A033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2C60-371C-4DA5-BA1A-088D82FE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AD77-2E88-48AD-AF4D-0BBB597E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A94C-E278-4A8B-A164-927556AF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1177-F63C-4C8D-BFEB-12E86ADB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6EE1-B485-44FE-BEF4-561F70B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16D-1EFE-44E5-8E88-C13C75C6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3D4C-9D2A-42E2-BA1F-ABBB98A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733-CA79-41B2-980D-3071B6B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4F34-1D72-4FB4-9453-E43586E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F8A3-F1BA-4366-ADB8-B1213AF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D74-A21F-43BB-9968-7197A75E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7C7E-0BF9-456B-A7C0-7874412F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1815-7913-4E3A-8915-41FC580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5B68-7ECA-46AD-A555-C092F291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2E4C-7329-4363-9CA8-06242E13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E41F-4350-439C-8370-314F4CD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D2A3-23F6-483C-9830-1E36C9BE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63B0-BD0C-407E-BC0E-F7CDAA5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A87-EBC8-4B71-AAD1-E1A354EE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CD86-DF51-4669-87D6-8E0E99FD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B70E-3468-42A4-9A1A-5C50845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7CBC-2692-42DA-A25A-514EC095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02F4-838A-4652-A3C1-34A6678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A649-3CB2-40CC-9A88-171A3972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61D7-CE9E-4E9C-B084-C2FB5285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CCD6-8AE5-433E-8EB7-0F8F3BD7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1295-3CC5-4A0C-A726-3AA83D34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F11B-A2AC-4693-BF3A-494D17E3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C16A-65CC-4983-9340-6A42F22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951-35EF-47FE-94C5-031CF47C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812C-907C-4495-B83A-E3871684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4C25-3F40-401A-B51F-111E1E24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4858-8288-4720-9955-9BD1B6A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DC54-B8EC-45A4-8730-D5C40498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0976-E6A7-456B-8D65-47E067CC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DA21-073E-4C8B-BB81-E032E6F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609F-565A-4A47-B83F-2600C0B1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3125-9C95-4B1F-BE9E-6A6CC753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119B-F562-4323-89A1-C969D0D3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352-B993-4718-8930-4F5774AB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356-22C0-460C-91FD-525D9C0F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5EB-10C8-4B48-9C33-5A5CF64F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2C6-E61E-4732-A380-0078558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D7E-9A12-451B-B52D-2A487F94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ED07-F1A4-46A9-BC01-B9768EDABC5B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3252-FD91-4F3F-B73C-7759A7AA7FC1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859-5C26-44D4-80EC-751D883338FB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719-9D7F-4467-A21B-E5EAFF129030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5707-EC93-4042-B86C-69B72EF2107C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8A47-507D-4C46-A6E4-0C029D26B0B8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F98C-579C-48FF-9F6C-45C52F84C7B1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84D6-5268-4861-9973-83F27DE733B6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262080" y="566640"/>
            <a:ext cx="4364280" cy="841320"/>
          </a:xfrm>
          <a:prstGeom prst="rect">
            <a:avLst/>
          </a:prstGeom>
          <a:ln w="0">
            <a:noFill/>
          </a:ln>
        </p:spPr>
      </p:pic>
      <p:sp>
        <p:nvSpPr>
          <p:cNvPr id="196" name="Date Placeholder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8F4F-3929-41B0-968C-CF573804EF3A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3740040" y="2174760"/>
          <a:ext cx="2762280" cy="3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0040" y="2174760"/>
                    <a:ext cx="2762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7"/>
          <p:cNvSpPr/>
          <p:nvPr/>
        </p:nvSpPr>
        <p:spPr>
          <a:xfrm>
            <a:off x="1005480" y="213984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1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plain w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136160" y="288288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2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 Euros do I get for £20 i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change rate is £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.5 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101240" y="41623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3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nswer to the question is 90. What is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Rectangle 15" descr=""/>
          <p:cNvPicPr/>
          <p:nvPr/>
        </p:nvPicPr>
        <p:blipFill>
          <a:blip r:embed="rId4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6" descr=""/>
          <p:cNvPicPr/>
          <p:nvPr/>
        </p:nvPicPr>
        <p:blipFill>
          <a:blip r:embed="rId1"/>
          <a:stretch/>
        </p:blipFill>
        <p:spPr>
          <a:xfrm>
            <a:off x="2017800" y="231840"/>
            <a:ext cx="554652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C3FB-2B03-4445-871E-2A9DEC1A4884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029200" y="302580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put integers in order of siz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understand how to add positive and negative numbers using the thermometer as an ai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16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756A-7088-4893-8CFC-B20BCE6A9CD0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1113480" y="1976400"/>
            <a:ext cx="72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finition 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 INTEGER is a negative or posi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le number, including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2967840" y="30430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.g.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-2, -1, 0, 5, 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993040" y="370368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Note : -2.5, -1.2, 23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6554160" y="373680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NOT 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923760" y="436392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down 3 places where negative number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Cloud 15"/>
          <p:cNvSpPr/>
          <p:nvPr/>
        </p:nvSpPr>
        <p:spPr>
          <a:xfrm>
            <a:off x="457200" y="425520"/>
            <a:ext cx="2565360" cy="927000"/>
          </a:xfrm>
          <a:prstGeom prst="pie">
            <a:avLst/>
          </a:prstGeom>
          <a:solidFill>
            <a:srgbClr val="6bdb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Cloud 16"/>
          <p:cNvSpPr/>
          <p:nvPr/>
        </p:nvSpPr>
        <p:spPr>
          <a:xfrm>
            <a:off x="5168880" y="419040"/>
            <a:ext cx="2565360" cy="927000"/>
          </a:xfrm>
          <a:prstGeom prst="pie">
            <a:avLst/>
          </a:prstGeom>
          <a:solidFill>
            <a:srgbClr val="b5ed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Cloud 17"/>
          <p:cNvSpPr/>
          <p:nvPr/>
        </p:nvSpPr>
        <p:spPr>
          <a:xfrm>
            <a:off x="990720" y="5092560"/>
            <a:ext cx="2565360" cy="927360"/>
          </a:xfrm>
          <a:prstGeom prst="pie">
            <a:avLst/>
          </a:prstGeom>
          <a:solidFill>
            <a:srgbClr val="b5ed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ordinate Gr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Cloud 18"/>
          <p:cNvSpPr/>
          <p:nvPr/>
        </p:nvSpPr>
        <p:spPr>
          <a:xfrm>
            <a:off x="5181480" y="5067360"/>
            <a:ext cx="2565360" cy="927000"/>
          </a:xfrm>
          <a:prstGeom prst="pie">
            <a:avLst/>
          </a:prstGeom>
          <a:solidFill>
            <a:srgbClr val="b5ed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fit and L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9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Rectangle 20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D1A-C5BC-4CD2-9831-E6469A58F7DF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36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77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178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179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180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181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182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183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84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85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187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188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204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205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241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243" name="Text Box 197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Text Box 198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Text Box 199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Text Box 200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01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202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203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Text Box 206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" name="Text Box 207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208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09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210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211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212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213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214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215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16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17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218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219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220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221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229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230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Group 242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269" name="Text Box 222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223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Text Box 224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Text Box 225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Text Box 226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Text Box 227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Text Box 228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Text Box 231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Text Box 232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233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" name="Group 254"/>
          <p:cNvGrpSpPr/>
          <p:nvPr/>
        </p:nvGrpSpPr>
        <p:grpSpPr>
          <a:xfrm>
            <a:off x="7581960" y="3429000"/>
            <a:ext cx="1454040" cy="1803240"/>
            <a:chOff x="7581960" y="3429000"/>
            <a:chExt cx="1454040" cy="1803240"/>
          </a:xfrm>
        </p:grpSpPr>
        <p:sp>
          <p:nvSpPr>
            <p:cNvPr id="280" name="Line 245"/>
            <p:cNvSpPr/>
            <p:nvPr/>
          </p:nvSpPr>
          <p:spPr>
            <a:xfrm>
              <a:off x="7581960" y="3429000"/>
              <a:ext cx="0" cy="1803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Text Box 246"/>
            <p:cNvSpPr/>
            <p:nvPr/>
          </p:nvSpPr>
          <p:spPr>
            <a:xfrm>
              <a:off x="7764120" y="411804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Negative -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2" name="Group 253"/>
          <p:cNvGrpSpPr/>
          <p:nvPr/>
        </p:nvGrpSpPr>
        <p:grpSpPr>
          <a:xfrm>
            <a:off x="7505640" y="2018880"/>
            <a:ext cx="1539360" cy="1422720"/>
            <a:chOff x="7505640" y="2018880"/>
            <a:chExt cx="1539360" cy="1422720"/>
          </a:xfrm>
        </p:grpSpPr>
        <p:sp>
          <p:nvSpPr>
            <p:cNvPr id="283" name="Line 243"/>
            <p:cNvSpPr/>
            <p:nvPr/>
          </p:nvSpPr>
          <p:spPr>
            <a:xfrm flipV="1">
              <a:off x="7569360" y="2018880"/>
              <a:ext cx="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Text Box 244"/>
            <p:cNvSpPr/>
            <p:nvPr/>
          </p:nvSpPr>
          <p:spPr>
            <a:xfrm>
              <a:off x="7840080" y="270828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ositive 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247"/>
            <p:cNvSpPr/>
            <p:nvPr/>
          </p:nvSpPr>
          <p:spPr>
            <a:xfrm>
              <a:off x="7505640" y="3314880"/>
              <a:ext cx="139680" cy="1267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6" name="Text Box 248"/>
          <p:cNvSpPr/>
          <p:nvPr/>
        </p:nvSpPr>
        <p:spPr>
          <a:xfrm>
            <a:off x="2192040" y="35337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2 &gt;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249"/>
          <p:cNvSpPr/>
          <p:nvPr/>
        </p:nvSpPr>
        <p:spPr>
          <a:xfrm>
            <a:off x="2196360" y="43592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2 &gt; 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250"/>
          <p:cNvSpPr/>
          <p:nvPr/>
        </p:nvSpPr>
        <p:spPr>
          <a:xfrm>
            <a:off x="2189880" y="51847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4 &lt;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252"/>
          <p:cNvSpPr/>
          <p:nvPr/>
        </p:nvSpPr>
        <p:spPr>
          <a:xfrm>
            <a:off x="5829480" y="3365640"/>
            <a:ext cx="1638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76"/>
          <p:cNvSpPr/>
          <p:nvPr/>
        </p:nvSpPr>
        <p:spPr>
          <a:xfrm>
            <a:off x="914760" y="1905120"/>
            <a:ext cx="38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 can be represe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on a thermometer or number li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19382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79"/>
          <p:cNvSpPr/>
          <p:nvPr/>
        </p:nvSpPr>
        <p:spPr>
          <a:xfrm>
            <a:off x="963360" y="25272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The further to the top a number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the bigger it i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Cloud Callout 80"/>
          <p:cNvSpPr/>
          <p:nvPr/>
        </p:nvSpPr>
        <p:spPr>
          <a:xfrm>
            <a:off x="469800" y="2781360"/>
            <a:ext cx="1638360" cy="83808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8ad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eater th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Cloud Callout 81"/>
          <p:cNvSpPr/>
          <p:nvPr/>
        </p:nvSpPr>
        <p:spPr>
          <a:xfrm>
            <a:off x="546120" y="4444920"/>
            <a:ext cx="1638360" cy="83844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8ad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ss th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250"/>
          <p:cNvSpPr/>
          <p:nvPr/>
        </p:nvSpPr>
        <p:spPr>
          <a:xfrm>
            <a:off x="1956240" y="5769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3.5 &lt; -2.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76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Rectangle 78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"/>
          <p:cNvPicPr/>
          <p:nvPr/>
        </p:nvPicPr>
        <p:blipFill>
          <a:blip r:embed="rId1"/>
          <a:stretch/>
        </p:blipFill>
        <p:spPr>
          <a:xfrm>
            <a:off x="2577960" y="2684520"/>
            <a:ext cx="2832120" cy="2846160"/>
          </a:xfrm>
          <a:prstGeom prst="rect">
            <a:avLst/>
          </a:prstGeom>
          <a:ln w="0">
            <a:noFill/>
          </a:ln>
        </p:spPr>
      </p:pic>
      <p:sp>
        <p:nvSpPr>
          <p:cNvPr id="299" name="Line 9"/>
          <p:cNvSpPr/>
          <p:nvPr/>
        </p:nvSpPr>
        <p:spPr>
          <a:xfrm>
            <a:off x="2604960" y="4094280"/>
            <a:ext cx="3189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0"/>
          <p:cNvSpPr/>
          <p:nvPr/>
        </p:nvSpPr>
        <p:spPr>
          <a:xfrm flipV="1">
            <a:off x="3965400" y="2476440"/>
            <a:ext cx="0" cy="31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113360" y="4054320"/>
            <a:ext cx="2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4646520" y="4054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437040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493704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784680" y="394668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594240" y="447372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3710160" y="364824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3610080" y="417816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684600" y="307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3697200" y="3355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21"/>
          <p:cNvSpPr/>
          <p:nvPr/>
        </p:nvSpPr>
        <p:spPr>
          <a:xfrm>
            <a:off x="2822400" y="46260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302160" y="23050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lot the poi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6855120" y="263520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3,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6867360" y="4330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-2,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5428080" y="41068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x - 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27"/>
          <p:cNvSpPr/>
          <p:nvPr/>
        </p:nvSpPr>
        <p:spPr>
          <a:xfrm>
            <a:off x="1474920" y="23162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y - 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28"/>
          <p:cNvSpPr/>
          <p:nvPr/>
        </p:nvSpPr>
        <p:spPr>
          <a:xfrm>
            <a:off x="6131520" y="3262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-coordinate is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6124320" y="373860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-coordinate is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446840" y="38847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3606840" y="47214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2538360" y="4051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3157560" y="4022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871720" y="40323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438360" y="4041720"/>
            <a:ext cx="4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39"/>
          <p:cNvSpPr/>
          <p:nvPr/>
        </p:nvSpPr>
        <p:spPr>
          <a:xfrm>
            <a:off x="4797360" y="34956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42"/>
          <p:cNvSpPr/>
          <p:nvPr/>
        </p:nvSpPr>
        <p:spPr>
          <a:xfrm>
            <a:off x="5560920" y="529740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lot the point that mak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ape a parallelog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44"/>
          <p:cNvSpPr/>
          <p:nvPr/>
        </p:nvSpPr>
        <p:spPr>
          <a:xfrm>
            <a:off x="3282480" y="139068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ordinate 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6879960" y="47372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-4,-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Straight Connector 47"/>
          <p:cNvSpPr/>
          <p:nvPr/>
        </p:nvSpPr>
        <p:spPr>
          <a:xfrm flipH="1" flipV="1">
            <a:off x="3460680" y="353664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Straight Connector 49"/>
          <p:cNvSpPr/>
          <p:nvPr/>
        </p:nvSpPr>
        <p:spPr>
          <a:xfrm flipH="1">
            <a:off x="2867040" y="349236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Straight Connector 50"/>
          <p:cNvSpPr/>
          <p:nvPr/>
        </p:nvSpPr>
        <p:spPr>
          <a:xfrm flipH="1" flipV="1">
            <a:off x="2901960" y="465408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22"/>
          <p:cNvSpPr/>
          <p:nvPr/>
        </p:nvSpPr>
        <p:spPr>
          <a:xfrm>
            <a:off x="3384720" y="34923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Straight Connector 52"/>
          <p:cNvSpPr/>
          <p:nvPr/>
        </p:nvSpPr>
        <p:spPr>
          <a:xfrm flipH="1">
            <a:off x="4238640" y="356868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4229280" y="46227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fceff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6" name="Rectangle 46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37" name="Date Placeholder 48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E1A-9849-4206-9D4E-A9C4A84D6BBD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53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0EB0-2478-4A2F-9F67-5D90883D3064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2162160" y="5421240"/>
            <a:ext cx="5626080" cy="98640"/>
          </a:xfrm>
          <a:prstGeom prst="rect">
            <a:avLst/>
          </a:prstGeom>
          <a:solidFill>
            <a:srgbClr val="5464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2352600" y="2220840"/>
            <a:ext cx="5195880" cy="3141360"/>
          </a:xfrm>
          <a:prstGeom prst="rect">
            <a:avLst/>
          </a:prstGeom>
          <a:solidFill>
            <a:srgbClr val="59aaf2"/>
          </a:solidFill>
          <a:ln w="76320">
            <a:solidFill>
              <a:srgbClr val="7e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complete Exercise 2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2 (page 23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fceff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Rectangle 12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3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14:07Z</dcterms:modified>
  <cp:revision>72</cp:revision>
  <dc:subject/>
  <dc:title>Slide 1</dc:title>
</cp:coreProperties>
</file>